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FD1-D86F-4C98-A544-2FBFC4E91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68A-B62D-41DA-809E-D31834507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558-5DCA-4234-B587-8DF278CBB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C279-6B2D-4B75-B290-0514289CE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575-0052-4FBB-B749-E8176205D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CDD-543D-4999-877D-B0C587933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B84A-AC06-4697-B597-F88E0827E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A10-32C0-44DC-852F-69AE1AAEC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E70-3885-49FC-AB0D-3F9B5A38B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7BD-D112-4164-93F4-450A06818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A99-ECF3-42B5-9CB9-0704F99C1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04E5-E0EB-4B6A-8F3C-E188F138A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C0E9-34A3-49CA-9E07-DC2BA6B37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A695-C60B-4C63-B484-18DA187D5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The Power of SMART Goals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y Jan O’Neill and Anne Conzemius  ISBN: 1-932127-87-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BCFD-BAA8-4FB2-ACD8-082970FAB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3E0F-521C-4F85-977F-DAC34A796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230-AE06-42C0-BCFC-DA3C836B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C36-7980-4F13-A2B4-06364456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72726-D9A0-41B3-AE96-FDBC874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0829E-5378-4081-95F1-AF922B6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A8DD9-58B8-4407-94B5-F6669B4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72855-D6E4-40D7-9272-55FEE29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2E732-CA32-4DD5-BEEA-05CE923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82A2E-6624-40D4-8878-41F83779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1F49E-C9A4-4B10-BAC1-434D550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8EC1A-ED11-450F-881C-2C138B67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C8986-665F-4CD7-82AD-716E1B5B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BFE6B-A07B-46FB-BB8B-7375E41F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8A9-451B-4C98-804C-2DFD33E7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EFF99-E899-4F6C-B22D-D112962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2B00E-1F7C-4982-8392-6DC63CC0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B96E1-48A5-45BD-833F-40DE158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569E3-CDB3-4453-92B2-6C769C01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0F526-D166-4AA4-B1F1-498EE33E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E5298-A91C-4DC8-B2F8-F451974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C75A1-E5EC-40D3-9121-C28007D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BAEB2-F748-40FE-8281-15DC766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B33CA-0BBD-4962-9F0D-CE9B797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CF0ED-0CA0-4CCF-9E3D-0D222FE0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543-0C33-472A-B425-CF250904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41122-B19F-45B7-AFC4-3113FE16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1025F-6D87-4F80-98DF-2C0C4403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2309-21DE-4B64-AF37-7151335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24016-D47B-4A76-B879-A6BA544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028E8-78B1-40BB-AEB1-EEC46D8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AF3E4-3B0C-4233-B627-F19E021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4BFE-1007-4E04-9A42-95D943D7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E186-B346-48EB-81A9-A420F83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F771-44AE-42A8-B202-7C71233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9A5BD-CB7A-48AB-8B8D-6E55BB1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D054-5B55-4F73-A7AF-2A1BCEE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98AB-6647-4431-AF39-87D7FC2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638E-A7E7-4E1E-B039-F6D12720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4CD4-64A6-40BF-983C-6690E808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82A28-F8C2-488F-86EB-F152C68C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B5D62-1C1E-4470-99E6-753B311C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A1731-E6DC-4DAC-9960-E778A49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3CFF1-8379-43AE-8FA2-63098B5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56E9D-C496-473D-9B23-303DDCC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9713B-3F45-4982-8D3D-6F6D49A3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716B0-09F2-470D-B473-D2C756D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0E1C-B408-4138-B0E5-70EFE33D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C46CC-DB23-4425-8F0E-159DD1A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5E9FD-25CB-4A72-BF85-CC0B83E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4C88D-751D-4C83-BD2C-31EE6BD2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EF149-9F7A-47C2-A602-6AB29049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07166-106E-448B-B656-B678FBAA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BF7-DED7-4D59-A2E9-00B75FBD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487D-A09D-4925-8E15-258EF052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BA0A-E0B5-4088-AD84-EB80804B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D0C7-D467-4992-9FE3-65DAAA61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016-9DBB-4C37-B06F-D19AC93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ADF-5EED-417D-A33F-3AA9342B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25F6-4E43-4671-AAA1-948838E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3648-C659-4EE0-AA1E-64FD75D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7B8-EBDD-4609-9662-B098804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F1D-F5E1-4E54-A0A7-F1B7ADCC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3281-704E-472C-9E1F-468DF309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7691-37AC-4B7A-B514-1B487A70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6F79-6382-486C-AA08-40A09CEF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AF39-71B9-43B2-A908-018D04B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A128-1072-43BE-B85D-84A1F7F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B2AF-900D-4B60-B536-45082CD7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018-ACC6-43AD-B6C2-D6B1EF07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627D-B3CD-45BB-AEF3-2ABA7E0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ABBD-8532-4034-902D-1A7033A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65F8-787C-40AC-9122-3192081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FF42-B65D-4DAF-AA33-CDAD391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4BD4-9CEF-4ECF-9F3F-2DD9D99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0611-AEB3-42CA-8838-FCAF52BA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399D-C239-4172-A685-63DB89F1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2BEC-8F5C-4C0A-89DA-F68D0796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0173-216A-4764-9866-1A0A19DE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9AC9-2FC1-42E3-B1E8-7EDE4871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220-5A62-405F-BFE5-30EC819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7B13-85E0-4710-A9E1-D6E2708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65C8-A1EA-4621-BCEC-B98E5488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7737-DF76-4CAB-B740-038816D3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177E-4B28-4517-9C49-7FEDD7E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07F5-2111-4E01-B116-9B53AE2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F342-9204-4D93-9974-198F490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6ECB-F8EE-4210-8FCF-52DDD19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26F9-772B-4C34-A062-A822C19F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A403-143A-45AE-A695-E34794DE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4034-C5AD-4160-872C-C737F83A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AC7-C314-480D-93D8-32B127B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8B85F-FDA9-418B-B254-4C86213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6ABB-CA51-4D7D-B364-196713A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D07F-69D1-4CBF-BBEB-07E69B0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D0A0-903B-4112-BE69-1B5E942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0E6A-C792-41F2-8059-8B285D49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ABC5-F13C-48F6-B89A-7564DE6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82B3-412E-4FE2-BE5C-D33AD5F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6001-DEEE-47B1-A4E8-41000F3B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E3A1-1DA1-4E83-BEC3-A2904FD4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1982-C3B1-468B-85B4-674806E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0C2-5F1C-4E77-B2CA-7290DBC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7405-C329-485A-8345-79EA0CC3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EE88-C2C4-4BD7-9CAB-210B8B1F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E0CF-2ECE-43E1-B9BE-38CB836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E870-3A51-43EE-A990-673D6FD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92F3-BF1A-4CC5-8847-C66D5AB8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6E8C-3457-4AE0-B2C2-8E81F5B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2B0CA-7CB9-4FB2-B9E1-B90D898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EC36E-EABE-4990-941F-D5D378D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42B4-41C8-485F-B467-A045442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FAAAE-51E8-47D7-9CCD-CA964ED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52E-F99F-4E95-9117-DEBD625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BA44E-7DC4-4D8E-BEA6-E51B51E9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03A1B-7FFE-41D8-87CA-85940E7F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7BC41-525C-4F62-9142-574821E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D7964-C0F6-4FAD-951A-6BFD6470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99198-D0CF-473D-B63F-D044F88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9F1E-1E88-46BC-AFCA-A53DE9AE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F0D2-6F32-4101-B3B9-783C90A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7A076-4F86-4B1B-BC8C-341D5A4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DC06-3C60-4A7F-835F-4C2DAD6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30D9F-BBF5-41FB-BDB4-CEAD90D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2FB-7D72-436D-8E3C-D0A7D84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1E56-CC95-407C-9CB5-5DD4E16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8D9D9-4C62-4AD0-A9CB-CA85055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B5C2-9F08-4EA7-BFB5-A1F0A748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2D4C-B04E-45AA-90DD-0136A4B1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ED970-F606-4A3D-ABDE-E85A927A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BEBF4-787F-4564-BED6-617A12F7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0B84-DC2D-4B9F-BD7C-81B4C867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A082-1B21-4843-9EA5-ED85F41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61AF6-283C-4D11-A8C1-5BD322B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101B-C8E9-4D78-977A-99668CC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C79-148E-47D0-A77B-C4881EE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72FE1-DFF8-412B-A1FD-23CDC6C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78DA-2272-4AD6-98A3-4E9F18E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023E-F351-4361-B6D9-D4879427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E16D5-62EB-4AA8-9861-7D87FE0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1FC8-88D0-47DB-BCA3-0EB897B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284E-CD0D-4083-B69A-F7FFC3A9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5FD5-06BE-474D-886A-7C7BC7A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73419-A281-4146-9459-010A8E2B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D3694-68F4-458F-9AA5-74AA347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AC9B1-25B0-42A9-9330-2D614CD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DFA-3E97-47DC-8F02-D70307E0F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6B9A-8678-41CC-BE03-D2F4C473F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65E-EF82-46C7-A449-1F936E64C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2431-481F-40D7-81C5-F5ECA7F4D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CB3-E9DF-4831-88E6-75D4A24E8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8BA0-DCD7-442F-A5D4-C7BA18C43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CCBF-149A-4DC2-BE6C-C95A3AC6D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A27-CAF1-4EC6-AB27-DF9B347DE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3D17-D88C-4446-9EFB-86016F06F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FDAF-0AD0-4471-846E-EB776BBFD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0F70-E932-4299-B551-CACCA94161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773F-3D9A-4165-AEA8-AF792B2FE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Rectangle 1031"/>
          <p:cNvSpPr/>
          <p:nvPr/>
        </p:nvSpPr>
        <p:spPr>
          <a:xfrm>
            <a:off x="65530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9123-9DD6-4A92-ACAE-2B914EDE3C2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6349"/>
                </a:solidFill>
                <a:latin typeface="Georgia"/>
              </a:rPr>
              <a:t>Developing Individual Professional Development Plans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6E49-AFF9-4A70-87D3-B1AC3A838A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Attain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 that motivate us to strive higher are those that are almost but not quite within our reach, that we need to stretch to achie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0640" y="286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</a:t>
            </a: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3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B19-FA66-4C00-9B1D-A3B9E6B164C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142640" y="1981080"/>
            <a:ext cx="57913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– Results-Based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Results-based goals are motivating.  The key question remains: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So what?”  </a:t>
            </a:r>
            <a:endParaRPr b="0" lang="en-US" sz="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What improved?  </a:t>
            </a:r>
            <a:endParaRPr b="0" lang="en-US" sz="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When we do not achieve the results we want, we can then go back to the drawing board and ask why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74280" y="291600"/>
            <a:ext cx="6350040" cy="11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</a:t>
            </a: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F43-EB74-49CD-A54F-282B07B7C45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142640" y="1981080"/>
            <a:ext cx="6095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15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– Time Bound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oals need to have a specific time frame.  This builds internal accountability and commitment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11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f a goal is not met within the time frame, then an opportunity is created to learn why the goal was not reached and to make adjustments.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25400" y="279360"/>
            <a:ext cx="65530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SMAR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Goal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F013-E63B-452A-ABAB-620369226D3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8 weeks, exercise 3 times a week sustaining a target heart rate for 30 minut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one year, MasterCard bill will have no carry-over bala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May 1, 95% of the students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de, will have mastered multiplication tables with 90% accuracy on a 2 min. time tes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85720" y="355320"/>
            <a:ext cx="6933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Leadership Growth Plan Example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50E-0DF9-406F-87BE-BEDE1FD2702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September 1, 2010, the administrator will train his/her staff to use data to make decisions to adjust/inform instruction and professional development 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March 30, 2010, the administrator will provide staff with observational data, based on “walk-throughs” at least weekl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A10-F351-4323-AA94-D2932453B2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Plan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nking points for this part of the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are some of the intermediate steps to obtaining this goal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resources and supports are needed to help this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formative checks will be done to ensure the goal will be met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Best Practices in Developing Pla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D3E8-D8B0-481D-A386-461B1F28D2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collaboratively with the administrator and evaluato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Needs of the administrato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e Iowa Standards for School Leader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e student achievement goals/action plan of the attendance center and the school district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4FE8-A191-4C6E-AD0C-F5833B6120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Collaboratively determine the existing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inking points for this process: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light of the building and district achievement goals, what skills does the administrator believe he/she needs to develop furthe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data sources and points will be used to determine need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needs to be in place to support the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1BA-458C-472A-9DB3-2C35DDEDF5C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Set go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inking points for this process: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elements are important in goal setting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data sources and points will be used to measure goal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needs to be in place to support the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20280" y="1915920"/>
            <a:ext cx="81169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646b86"/>
                </a:solidFill>
                <a:latin typeface="Georgia"/>
              </a:rPr>
              <a:t>WHAT GETS MEASURED GETS DONE.</a:t>
            </a:r>
            <a:br>
              <a:rPr sz="3700"/>
            </a:b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600" spc="-1" strike="noStrike">
                <a:solidFill>
                  <a:srgbClr val="646b86"/>
                </a:solidFill>
                <a:latin typeface="Georgi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Iowa Evaluator Approval Training Program:  Evaluation of Administrators © 2007  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AC7-1081-44CC-9753-6B3C95D114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58800" y="3924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"</a:t>
            </a:r>
            <a:r>
              <a:rPr b="0" i="1" lang="en-US" sz="2500" spc="-1" strike="noStrike">
                <a:solidFill>
                  <a:srgbClr val="646b86"/>
                </a:solidFill>
                <a:latin typeface="Georgia"/>
              </a:rPr>
              <a:t>Not everything that counts can be counted and not everything that can be counted counts."</a:t>
            </a: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Einstein</a:t>
            </a: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  </a:t>
            </a:r>
            <a:br>
              <a:rPr sz="38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al S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372-272F-4516-A786-5B05677D6A6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goals are key to planning the individual growth plan of administra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s shoul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Focus on improvement in Iowa Standards for School Leader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Provide information on data collectio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Promote personal responsibility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Other?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many models of goal setting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         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0E8-C397-4EB4-BE7A-F89497B8FB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Strategic and specif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M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Measur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A</a:t>
            </a:r>
            <a:r>
              <a:rPr b="0" lang="en-US" sz="27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Attain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Results-b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T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Time b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6356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A897-2C41-4EA9-8D4E-46F00BF96A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42640" y="1981080"/>
            <a:ext cx="6095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11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– Strategic and Specific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Why specific?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Specificity provides the concrete, tangible evidence of improvement.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By targeting knowledge and skills that achieve the Iowa Standards for School Leaders, administrators become very focused in their approaches. 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By targeting on specific goals, the administrator has clearer communication on what needs to change to increase results.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73120" y="279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</a:t>
            </a:r>
            <a:r>
              <a:rPr b="0" i="1" lang="en-US" sz="61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ART GO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716-56F5-4DA6-AB89-6482F78AB3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2640" y="1981080"/>
            <a:ext cx="62485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13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– Measurable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Being able to measure a goal is critical as we tend to focus our efforts on what gets measured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By using multiple measures, a more complete picture of results can be reliably reached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9:13:16Z</dcterms:created>
  <dc:creator>Loess Hills</dc:creator>
  <dc:description/>
  <dc:language>en-US</dc:language>
  <cp:lastModifiedBy>Loess Hills</cp:lastModifiedBy>
  <dcterms:modified xsi:type="dcterms:W3CDTF">2010-03-03T19:14:52Z</dcterms:modified>
  <cp:revision>1</cp:revision>
  <dc:subject/>
  <dc:title>Developing Individual Professional Development Plans</dc:title>
</cp:coreProperties>
</file>